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FA5-F5BD-46F4-B712-04C8ED41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954-9522-4403-961D-CB1034C4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7F8-CC8B-4A76-B46E-13439279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867-122B-41D9-A196-EC8EF001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E12-3CD6-451B-A01F-AE7B3BD8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ED0-7D83-4CFA-AE2A-6DCF80C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FFB8-6A0E-4670-8327-4B1D07B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EA44-0EF6-44EC-A777-8EFD8269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B0D-3D49-4D2F-8CED-CA56643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6698-C64D-41D2-B3FF-20C9AA45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9356-A7D5-4210-ADA7-46520B1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E3B-D04E-4E38-92AB-1E84495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7030-2DB8-4EF0-9E29-073EB22A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3C56-5EE8-487C-858C-7687A7D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6EEC-594B-4A94-A905-8FB78E5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938F-D393-4EC5-8B36-86D87BE6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32F7-191E-4950-942C-D2637C57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8E4-B83D-41A1-8635-59ADEEA1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718-9C2A-42D5-8BA3-86A8225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0D9-9A7C-4366-AC53-3432106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2C-4004-4471-B22C-E0E7967A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BE3-9C34-4F45-91C4-C46580D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F47-84C6-4C33-9195-70B663D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9A0-9CD1-402F-A4E4-2653C3D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8FF0-BA92-40E6-A15C-D06E606323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F64D-4E30-4650-B55E-AF9C89C4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99"/>
                </a:solidFill>
                <a:latin typeface="Times New Roman"/>
              </a:rPr>
              <a:t>VOWELS</a:t>
            </a:r>
            <a:endParaRPr b="0" lang="en-US" sz="72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99"/>
                </a:solidFill>
                <a:latin typeface="Arial"/>
              </a:rPr>
              <a:t>a e i o 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sometimes 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14600" y="5867280"/>
            <a:ext cx="3733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y Lisa Knigh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5000">
    <p:random/>
    <p:sndAc>
      <p:stSnd>
        <p:snd r:embed="rId1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</a:rPr>
              <a:t>Can you hear short a?</a:t>
            </a:r>
            <a:endParaRPr b="0" lang="en-US" sz="60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c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v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ru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lam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495680" y="2133360"/>
            <a:ext cx="914400" cy="533520"/>
            <a:chOff x="4495680" y="2133360"/>
            <a:chExt cx="914400" cy="533520"/>
          </a:xfrm>
        </p:grpSpPr>
        <p:sp>
          <p:nvSpPr>
            <p:cNvPr id="134" name=""/>
            <p:cNvSpPr/>
            <p:nvPr/>
          </p:nvSpPr>
          <p:spPr>
            <a:xfrm>
              <a:off x="4495680" y="23623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724280" y="21333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48320" y="3200040"/>
            <a:ext cx="914400" cy="533520"/>
            <a:chOff x="4648320" y="3200040"/>
            <a:chExt cx="914400" cy="533520"/>
          </a:xfrm>
        </p:grpSpPr>
        <p:sp>
          <p:nvSpPr>
            <p:cNvPr id="137" name=""/>
            <p:cNvSpPr/>
            <p:nvPr/>
          </p:nvSpPr>
          <p:spPr>
            <a:xfrm>
              <a:off x="4648320" y="342900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876920" y="320004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876920" y="5409720"/>
            <a:ext cx="914400" cy="533520"/>
            <a:chOff x="4876920" y="5409720"/>
            <a:chExt cx="914400" cy="533520"/>
          </a:xfrm>
        </p:grpSpPr>
        <p:sp>
          <p:nvSpPr>
            <p:cNvPr id="140" name=""/>
            <p:cNvSpPr/>
            <p:nvPr/>
          </p:nvSpPr>
          <p:spPr>
            <a:xfrm>
              <a:off x="4876920" y="563868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105520" y="540972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random/>
    <p:sndAc>
      <p:stSnd>
        <p:snd r:embed="rId1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</a:rPr>
              <a:t>Can you hear short e?</a:t>
            </a:r>
            <a:endParaRPr b="0" lang="en-US" sz="60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mit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bel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des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n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48320" y="3047760"/>
            <a:ext cx="914400" cy="533520"/>
            <a:chOff x="4648320" y="3047760"/>
            <a:chExt cx="914400" cy="533520"/>
          </a:xfrm>
        </p:grpSpPr>
        <p:sp>
          <p:nvSpPr>
            <p:cNvPr id="145" name=""/>
            <p:cNvSpPr/>
            <p:nvPr/>
          </p:nvSpPr>
          <p:spPr>
            <a:xfrm>
              <a:off x="4648320" y="32767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876920" y="30477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76920" y="4266720"/>
            <a:ext cx="914400" cy="533520"/>
            <a:chOff x="4876920" y="4266720"/>
            <a:chExt cx="914400" cy="533520"/>
          </a:xfrm>
        </p:grpSpPr>
        <p:sp>
          <p:nvSpPr>
            <p:cNvPr id="148" name=""/>
            <p:cNvSpPr/>
            <p:nvPr/>
          </p:nvSpPr>
          <p:spPr>
            <a:xfrm>
              <a:off x="4876920" y="449568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105520" y="426672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876920" y="5409720"/>
            <a:ext cx="914400" cy="533520"/>
            <a:chOff x="4876920" y="5409720"/>
            <a:chExt cx="914400" cy="533520"/>
          </a:xfrm>
        </p:grpSpPr>
        <p:sp>
          <p:nvSpPr>
            <p:cNvPr id="151" name=""/>
            <p:cNvSpPr/>
            <p:nvPr/>
          </p:nvSpPr>
          <p:spPr>
            <a:xfrm>
              <a:off x="4876920" y="563868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105520" y="540972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random/>
    <p:sndAc>
      <p:stSnd>
        <p:snd r:embed="rId1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</a:rPr>
              <a:t>Can you hear short i?</a:t>
            </a:r>
            <a:endParaRPr b="0" lang="en-US" sz="60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bi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ca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wi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hil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95680" y="2133360"/>
            <a:ext cx="914400" cy="533520"/>
            <a:chOff x="4495680" y="2133360"/>
            <a:chExt cx="914400" cy="533520"/>
          </a:xfrm>
        </p:grpSpPr>
        <p:sp>
          <p:nvSpPr>
            <p:cNvPr id="156" name=""/>
            <p:cNvSpPr/>
            <p:nvPr/>
          </p:nvSpPr>
          <p:spPr>
            <a:xfrm>
              <a:off x="4495680" y="23623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724280" y="21333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72000" y="4343040"/>
            <a:ext cx="914400" cy="533520"/>
            <a:chOff x="4572000" y="4343040"/>
            <a:chExt cx="914400" cy="533520"/>
          </a:xfrm>
        </p:grpSpPr>
        <p:sp>
          <p:nvSpPr>
            <p:cNvPr id="159" name=""/>
            <p:cNvSpPr/>
            <p:nvPr/>
          </p:nvSpPr>
          <p:spPr>
            <a:xfrm>
              <a:off x="4572000" y="457200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00600" y="434304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72000" y="5333760"/>
            <a:ext cx="914400" cy="533520"/>
            <a:chOff x="4572000" y="5333760"/>
            <a:chExt cx="914400" cy="533520"/>
          </a:xfrm>
        </p:grpSpPr>
        <p:sp>
          <p:nvSpPr>
            <p:cNvPr id="162" name=""/>
            <p:cNvSpPr/>
            <p:nvPr/>
          </p:nvSpPr>
          <p:spPr>
            <a:xfrm>
              <a:off x="4572000" y="55627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800600" y="53337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random/>
    <p:sndAc>
      <p:stSnd>
        <p:snd r:embed="rId1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</a:rPr>
              <a:t>Can you hear short o?</a:t>
            </a:r>
            <a:endParaRPr b="0" lang="en-US" sz="60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fo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to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clo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t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495680" y="2133360"/>
            <a:ext cx="914400" cy="533520"/>
            <a:chOff x="4495680" y="2133360"/>
            <a:chExt cx="914400" cy="533520"/>
          </a:xfrm>
        </p:grpSpPr>
        <p:sp>
          <p:nvSpPr>
            <p:cNvPr id="167" name=""/>
            <p:cNvSpPr/>
            <p:nvPr/>
          </p:nvSpPr>
          <p:spPr>
            <a:xfrm>
              <a:off x="4495680" y="23623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724280" y="21333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495680" y="3200040"/>
            <a:ext cx="914400" cy="533520"/>
            <a:chOff x="4495680" y="3200040"/>
            <a:chExt cx="914400" cy="533520"/>
          </a:xfrm>
        </p:grpSpPr>
        <p:sp>
          <p:nvSpPr>
            <p:cNvPr id="170" name=""/>
            <p:cNvSpPr/>
            <p:nvPr/>
          </p:nvSpPr>
          <p:spPr>
            <a:xfrm>
              <a:off x="4495680" y="342900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24280" y="320004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29200" y="4343040"/>
            <a:ext cx="914400" cy="533520"/>
            <a:chOff x="5029200" y="4343040"/>
            <a:chExt cx="914400" cy="533520"/>
          </a:xfrm>
        </p:grpSpPr>
        <p:sp>
          <p:nvSpPr>
            <p:cNvPr id="173" name=""/>
            <p:cNvSpPr/>
            <p:nvPr/>
          </p:nvSpPr>
          <p:spPr>
            <a:xfrm>
              <a:off x="5029200" y="457200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57800" y="434304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random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</a:rPr>
              <a:t>Can you hear short u?</a:t>
            </a:r>
            <a:endParaRPr b="0" lang="en-US" sz="60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b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c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po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ff99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s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95680" y="2133360"/>
            <a:ext cx="914400" cy="533520"/>
            <a:chOff x="4495680" y="2133360"/>
            <a:chExt cx="914400" cy="533520"/>
          </a:xfrm>
        </p:grpSpPr>
        <p:sp>
          <p:nvSpPr>
            <p:cNvPr id="178" name=""/>
            <p:cNvSpPr/>
            <p:nvPr/>
          </p:nvSpPr>
          <p:spPr>
            <a:xfrm>
              <a:off x="4495680" y="23623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724280" y="21333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95680" y="3276360"/>
            <a:ext cx="914400" cy="533520"/>
            <a:chOff x="4495680" y="3276360"/>
            <a:chExt cx="914400" cy="533520"/>
          </a:xfrm>
        </p:grpSpPr>
        <p:sp>
          <p:nvSpPr>
            <p:cNvPr id="181" name=""/>
            <p:cNvSpPr/>
            <p:nvPr/>
          </p:nvSpPr>
          <p:spPr>
            <a:xfrm>
              <a:off x="4495680" y="350532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724280" y="327636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95680" y="5409720"/>
            <a:ext cx="914400" cy="533520"/>
            <a:chOff x="4495680" y="5409720"/>
            <a:chExt cx="914400" cy="533520"/>
          </a:xfrm>
        </p:grpSpPr>
        <p:sp>
          <p:nvSpPr>
            <p:cNvPr id="184" name=""/>
            <p:cNvSpPr/>
            <p:nvPr/>
          </p:nvSpPr>
          <p:spPr>
            <a:xfrm>
              <a:off x="4495680" y="5638680"/>
              <a:ext cx="228600" cy="3045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24280" y="5409720"/>
              <a:ext cx="685800" cy="533160"/>
            </a:xfrm>
            <a:prstGeom prst="line">
              <a:avLst/>
            </a:prstGeom>
            <a:ln w="540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random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Did you hear these short vowels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523880"/>
          <a:ext cx="693432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934320" cy="495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15000">
    <p:random/>
    <p:sndAc>
      <p:stSnd>
        <p:snd r:embed="rId3" name="LAS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What short vowel do you hear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76520" y="1523880"/>
          <a:ext cx="693396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6933960" cy="495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895480" y="3200400"/>
            <a:ext cx="15264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3200400"/>
            <a:ext cx="15228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3200400"/>
            <a:ext cx="15228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4724280"/>
            <a:ext cx="15264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4724280"/>
            <a:ext cx="15228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4648320"/>
            <a:ext cx="15264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6248520"/>
            <a:ext cx="15264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6248520"/>
            <a:ext cx="15228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6248520"/>
            <a:ext cx="152640" cy="0"/>
          </a:xfrm>
          <a:prstGeom prst="line">
            <a:avLst/>
          </a:prstGeom>
          <a:ln w="604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random/>
    <p:sndAc>
      <p:stSnd>
        <p:snd r:embed="rId3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cc0099"/>
                </a:solidFill>
                <a:latin typeface="Times New Roman"/>
              </a:rPr>
              <a:t>Hooray for short vowels!</a:t>
            </a:r>
            <a:br>
              <a:rPr sz="5400"/>
            </a:br>
            <a:r>
              <a:rPr b="0" lang="en-US" sz="5400" spc="-1" strike="noStrike">
                <a:solidFill>
                  <a:srgbClr val="cc0099"/>
                </a:solidFill>
                <a:latin typeface="Times New Roman"/>
              </a:rPr>
              <a:t> Say their sounds with me.</a:t>
            </a:r>
            <a:endParaRPr b="0" lang="en-US" sz="5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7720" y="4191120"/>
            <a:ext cx="114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029200"/>
            <a:ext cx="1143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267080"/>
            <a:ext cx="114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5486400"/>
            <a:ext cx="1143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343400"/>
            <a:ext cx="1143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random/>
    <p:sndAc>
      <p:stSnd>
        <p:snd r:embed="rId1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20:39:56Z</dcterms:created>
  <dc:creator>Jefferson County Schools</dc:creator>
  <dc:description/>
  <dc:language>en-US</dc:language>
  <cp:lastModifiedBy>oem</cp:lastModifiedBy>
  <dcterms:modified xsi:type="dcterms:W3CDTF">1999-02-03T15:32:51Z</dcterms:modified>
  <cp:revision>9</cp:revision>
  <dc:subject/>
  <dc:title>VOWELS</dc:title>
</cp:coreProperties>
</file>